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9AE9-549F-407E-9760-A671ED3440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432A-2CE8-4FD5-ADBC-F07FB3EA8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557E-B3F1-4156-943C-950548841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0A13-CC1D-4979-AF67-A355FEEDD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16EE-1177-4021-9BEB-4215F0BB9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099E-5FC6-42EF-BECD-8AAA1D0BB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93FB-6C9B-4CF2-B3C9-4CAECF7E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520-0DD0-4C4A-BCA0-D5948DC5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6BE-DB3F-41BB-96AE-EED2DF0C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2B5-49C3-4177-ADD1-1722E3C5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02A9-5283-4476-A13A-B81F1D1A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A7C9-7D80-4912-8FF6-FEC51403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A2A3-28BF-43D0-928B-89830B6A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DDF-50DF-4CEC-A50B-1470FE34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BD78-068F-47A8-8915-F4FA1399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B382-2386-4D73-AB18-BFFB9898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D910-8C82-4691-9A6B-67C08B12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F508-07FE-4CFF-834C-E1CF4E06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1601-D673-4FF4-BE9E-C1AC5E7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E06E-4A7C-4CB3-A510-AB63F8F9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B996-EBF9-4FCD-93AF-E30BFE9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D3A0-A90C-4F3B-A579-C05105A9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5F49-44EA-4B3F-AAAA-7F347850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967A-7660-4948-8C4A-357BE06C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27B-EC84-4861-9129-BACEB8B9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DC74B-34E8-4090-8E35-F541F6B9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85C1-FBB5-49E5-9174-1E5F6730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E832-2027-489C-A5BA-F565EC45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9545-5540-44C6-A672-E3326751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4048-5211-4671-A32A-1E333575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2847-CE45-48D3-9FDB-6AFD3E25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0184-294E-4FB7-BD74-8E48CBFA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EAE2-0416-4D78-93AA-CC68B630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CBF5-72D8-44E0-9B94-5FEC7D7F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1BAE-4A34-475F-A8EC-36429FF5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69F-7670-4292-854D-9559A64F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6FB6-AEEC-4B18-99B4-A516F8C8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882F-929E-4A9A-911C-0FFADFA6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22EBD-9C3C-4BC7-BA0C-A98C0071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B51A-1B78-4D49-832F-DB922E43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A2C0-B4BC-44A6-8685-EF0ED66B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08384-2ACE-4755-8215-2C70F2B0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516E4-CDBA-4DB0-9B6C-8ED49F73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48BA-EE25-4F9D-8895-00FCAB6B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2E2AF-AB58-414C-BF9E-F199686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B185-5437-4CAE-938E-31244CE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0D8-E1AC-4623-A213-94E4F767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5F0E-25C6-4B2E-A7BD-ED238433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A8E6-2129-425C-863D-F45E0FDF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45AF-A1C7-4589-86E3-91260B0C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E0E-5E92-455A-81EA-89FF9925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956-DEC7-497E-9475-A8D9CE81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B08-2F97-4570-A5A3-595AEDFD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4DD-745D-4006-93FF-8BBD1BD8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DF6-5F87-4895-87FF-F46A3B07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4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14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18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87" name="Straight Connector 19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traight Connector 20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7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8FEC-C843-41F1-9DD5-0AC4B650109F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Line 6"/>
          <p:cNvSpPr/>
          <p:nvPr/>
        </p:nvSpPr>
        <p:spPr>
          <a:xfrm>
            <a:off x="182520" y="1095480"/>
            <a:ext cx="8775720" cy="0"/>
          </a:xfrm>
          <a:prstGeom prst="line">
            <a:avLst/>
          </a:prstGeom>
          <a:ln w="76320">
            <a:solidFill>
              <a:srgbClr val="0ba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8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9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DB9-7076-4BAA-B0A1-65A94A6C2FDB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9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Line 6"/>
          <p:cNvSpPr/>
          <p:nvPr/>
        </p:nvSpPr>
        <p:spPr>
          <a:xfrm>
            <a:off x="182520" y="1095480"/>
            <a:ext cx="8775720" cy="0"/>
          </a:xfrm>
          <a:prstGeom prst="line">
            <a:avLst/>
          </a:prstGeom>
          <a:ln w="76320">
            <a:solidFill>
              <a:srgbClr val="0ba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8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9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F67D-7C5B-4209-B55A-82F9741CBA76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3B9D-B8D0-47F4-9EAF-CF57AD905B8E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6"/>
          <p:cNvSpPr/>
          <p:nvPr/>
        </p:nvSpPr>
        <p:spPr>
          <a:xfrm>
            <a:off x="182520" y="1095480"/>
            <a:ext cx="8775720" cy="0"/>
          </a:xfrm>
          <a:prstGeom prst="line">
            <a:avLst/>
          </a:prstGeom>
          <a:ln w="76320">
            <a:solidFill>
              <a:srgbClr val="0ba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Specific Internal Defense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The Acquired (or Adaptive) Immune Syst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bod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09120" y="1392120"/>
            <a:ext cx="782316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Antibodie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produced only by B cells and their offspr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Y-shaped proteins composed of two pairs of peptide chains: one pair of identical large (heavy) chains and one pair of identical small (light) chain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oth heavy and light chains consist of a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constant region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, which is similar in all antibodies of the same type, and a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variable region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that differs among individual antibodie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 light and heavy chains combine to form the two functional parts: the “arms” of the Y and the “stem” of the Y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 variable regions at the arm tips form sites that bind antigen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ach binding site has a particular size, shape, and electrical charge so that only certain molecules can fit in and bind to the antibody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 sites are so specific that each antibody can bind only a few, very similar, types of antigen molecule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36_06Figure-U"/>
          <p:cNvPicPr/>
          <p:nvPr/>
        </p:nvPicPr>
        <p:blipFill>
          <a:blip r:embed="rId1"/>
          <a:srcRect l="0" t="0" r="0" b="3420"/>
          <a:stretch/>
        </p:blipFill>
        <p:spPr>
          <a:xfrm>
            <a:off x="1166760" y="458640"/>
            <a:ext cx="6810480" cy="573588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31"/>
          <p:cNvSpPr/>
          <p:nvPr/>
        </p:nvSpPr>
        <p:spPr>
          <a:xfrm rot="21017400">
            <a:off x="1792440" y="791640"/>
            <a:ext cx="70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1"/>
          <p:cNvSpPr/>
          <p:nvPr/>
        </p:nvSpPr>
        <p:spPr>
          <a:xfrm rot="2643600">
            <a:off x="5495400" y="1669680"/>
            <a:ext cx="702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31"/>
          <p:cNvSpPr/>
          <p:nvPr/>
        </p:nvSpPr>
        <p:spPr>
          <a:xfrm>
            <a:off x="1204920" y="2279520"/>
            <a:ext cx="677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1"/>
          <p:cNvSpPr/>
          <p:nvPr/>
        </p:nvSpPr>
        <p:spPr>
          <a:xfrm>
            <a:off x="3414600" y="2443320"/>
            <a:ext cx="677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v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1"/>
          <p:cNvSpPr/>
          <p:nvPr/>
        </p:nvSpPr>
        <p:spPr>
          <a:xfrm>
            <a:off x="5443560" y="3639960"/>
            <a:ext cx="2338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regions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 binding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1"/>
          <p:cNvSpPr/>
          <p:nvPr/>
        </p:nvSpPr>
        <p:spPr>
          <a:xfrm>
            <a:off x="4199040" y="4884840"/>
            <a:ext cx="276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regions a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 in all antibod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ive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0"/>
          <p:cNvSpPr/>
          <p:nvPr/>
        </p:nvSpPr>
        <p:spPr>
          <a:xfrm rot="20844000">
            <a:off x="1752120" y="1579320"/>
            <a:ext cx="131760" cy="1895400"/>
          </a:xfrm>
          <a:custGeom>
            <a:avLst/>
            <a:gdLst>
              <a:gd name="textAreaLeft" fmla="*/ 84240 w 131760"/>
              <a:gd name="textAreaRight" fmla="*/ 132120 w 131760"/>
              <a:gd name="textAreaTop" fmla="*/ 21240 h 1895400"/>
              <a:gd name="textAreaBottom" fmla="*/ 1874160 h 18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9"/>
                  <a:pt x="10800" y="778"/>
                </a:cubicBezTo>
                <a:lnTo>
                  <a:pt x="10800" y="10022"/>
                </a:lnTo>
                <a:cubicBezTo>
                  <a:pt x="10800" y="10411"/>
                  <a:pt x="5400" y="10800"/>
                  <a:pt x="0" y="10800"/>
                </a:cubicBezTo>
                <a:cubicBezTo>
                  <a:pt x="5400" y="10800"/>
                  <a:pt x="10800" y="11189"/>
                  <a:pt x="10800" y="11578"/>
                </a:cubicBezTo>
                <a:lnTo>
                  <a:pt x="10800" y="20822"/>
                </a:lnTo>
                <a:cubicBezTo>
                  <a:pt x="10800" y="2121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1"/>
          <p:cNvSpPr/>
          <p:nvPr/>
        </p:nvSpPr>
        <p:spPr>
          <a:xfrm rot="20844000">
            <a:off x="3112560" y="1257480"/>
            <a:ext cx="140040" cy="2044440"/>
          </a:xfrm>
          <a:custGeom>
            <a:avLst/>
            <a:gdLst>
              <a:gd name="textAreaLeft" fmla="*/ 0 w 140040"/>
              <a:gd name="textAreaRight" fmla="*/ 50400 w 140040"/>
              <a:gd name="textAreaTop" fmla="*/ 30960 h 2044440"/>
              <a:gd name="textAreaBottom" fmla="*/ 2013480 h 20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8"/>
                  <a:pt x="10800" y="1055"/>
                </a:cubicBezTo>
                <a:lnTo>
                  <a:pt x="10800" y="13716"/>
                </a:lnTo>
                <a:cubicBezTo>
                  <a:pt x="10800" y="14244"/>
                  <a:pt x="16200" y="14771"/>
                  <a:pt x="21600" y="14771"/>
                </a:cubicBezTo>
                <a:cubicBezTo>
                  <a:pt x="16200" y="14771"/>
                  <a:pt x="10800" y="15299"/>
                  <a:pt x="10800" y="15826"/>
                </a:cubicBezTo>
                <a:lnTo>
                  <a:pt x="10800" y="20545"/>
                </a:lnTo>
                <a:cubicBezTo>
                  <a:pt x="10800" y="2107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2"/>
          <p:cNvSpPr/>
          <p:nvPr/>
        </p:nvSpPr>
        <p:spPr>
          <a:xfrm rot="1031400">
            <a:off x="3335040" y="3206520"/>
            <a:ext cx="8892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3"/>
          <p:cNvSpPr/>
          <p:nvPr/>
        </p:nvSpPr>
        <p:spPr>
          <a:xfrm rot="810000">
            <a:off x="3015720" y="3303360"/>
            <a:ext cx="76320" cy="2625480"/>
          </a:xfrm>
          <a:custGeom>
            <a:avLst/>
            <a:gdLst>
              <a:gd name="textAreaLeft" fmla="*/ 0 w 76320"/>
              <a:gd name="textAreaRight" fmla="*/ 53640 w 76320"/>
              <a:gd name="textAreaTop" fmla="*/ 51480 h 2625480"/>
              <a:gd name="textAreaBottom" fmla="*/ 2574000 h 26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24"/>
                  <a:pt x="21600" y="847"/>
                </a:cubicBezTo>
                <a:lnTo>
                  <a:pt x="21600" y="20753"/>
                </a:lnTo>
                <a:cubicBezTo>
                  <a:pt x="21600" y="21177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4"/>
          <p:cNvSpPr/>
          <p:nvPr/>
        </p:nvSpPr>
        <p:spPr>
          <a:xfrm rot="556800">
            <a:off x="3306240" y="3325320"/>
            <a:ext cx="781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3384720" y="3174840"/>
            <a:ext cx="2520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378240" y="3330360"/>
            <a:ext cx="25200" cy="10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6160" y="2026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bod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130320" y="1036440"/>
            <a:ext cx="5137200" cy="50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bodies serve two functions in the adaptive immune respon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55600" indent="-35532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ecognizing foreign antigens and triggering the response against invad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55600" indent="-35532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elping to destroy the invading cells or molecules that bear antigen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28" name="Picture 2" descr="36_07Figure-U"/>
          <p:cNvPicPr/>
          <p:nvPr/>
        </p:nvPicPr>
        <p:blipFill>
          <a:blip r:embed="rId1"/>
          <a:srcRect l="0" t="0" r="0" b="3750"/>
          <a:stretch/>
        </p:blipFill>
        <p:spPr>
          <a:xfrm>
            <a:off x="5094360" y="1949400"/>
            <a:ext cx="4060800" cy="48880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31"/>
          <p:cNvSpPr/>
          <p:nvPr/>
        </p:nvSpPr>
        <p:spPr>
          <a:xfrm>
            <a:off x="6494400" y="4297320"/>
            <a:ext cx="70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1"/>
          <p:cNvSpPr/>
          <p:nvPr/>
        </p:nvSpPr>
        <p:spPr>
          <a:xfrm>
            <a:off x="5160960" y="5719680"/>
            <a:ext cx="70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b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1"/>
          <p:cNvSpPr/>
          <p:nvPr/>
        </p:nvSpPr>
        <p:spPr>
          <a:xfrm>
            <a:off x="5961240" y="6556320"/>
            <a:ext cx="70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1"/>
          <p:cNvSpPr/>
          <p:nvPr/>
        </p:nvSpPr>
        <p:spPr>
          <a:xfrm rot="18901800">
            <a:off x="7649640" y="5854680"/>
            <a:ext cx="1044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b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8"/>
          <p:cNvSpPr/>
          <p:nvPr/>
        </p:nvSpPr>
        <p:spPr>
          <a:xfrm flipV="1">
            <a:off x="6943680" y="6617880"/>
            <a:ext cx="81288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9"/>
          <p:cNvSpPr/>
          <p:nvPr/>
        </p:nvSpPr>
        <p:spPr>
          <a:xfrm>
            <a:off x="5527800" y="5392800"/>
            <a:ext cx="30168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0"/>
          <p:cNvSpPr/>
          <p:nvPr/>
        </p:nvSpPr>
        <p:spPr>
          <a:xfrm>
            <a:off x="6289560" y="5925960"/>
            <a:ext cx="122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29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daptive Immune System Attacks Invader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144000" y="1929960"/>
            <a:ext cx="877572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e invading microbe usually includes a handful of different antigens, each capable of binding only to a few antibodies or T-cell receptor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Your immune system contains millions of B and T cells, each bearing antibodies or T-cell receptors that differ from the antibodies or T-cell receptors of every other immune cell in your body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e benefit to having millions of unique immune cells is that almost any invader will provoke an adaptive immune respons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drawback to having very small numbers of cells that can recognize any given invader is that a handful of cells isn’t enough to kill the invaders immediatel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It usually takes 1 to 2 weeks to mount a good immune response to the first exposure to an invading microbe, as the responding cells multiply and differentiat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adaptive immune system simultaneously launches two types of attack against microbial invad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1. Humoral immunity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2. Cell-mediated immunity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umoral immunity – B Cell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09120" y="1282680"/>
            <a:ext cx="79470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duced by antibodies dissolved in the bloo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vided by B cells and the antibodies that they secrete into the bloodstre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When a microbe enters the body, the antibodies on a few of these B cells can bind to antigens on the invader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Antigen-antibody binding causes these B cells to multiply rapidly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e daughter cells differentiate into two cell typ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1" i="1" lang="en-US" sz="1400" spc="-1" strike="noStrike">
                <a:solidFill>
                  <a:srgbClr val="404040"/>
                </a:solidFill>
                <a:latin typeface="Trebuchet MS"/>
              </a:rPr>
              <a:t>Memory B cells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, which do not release antibodies, but play an important role in future immunity to the invader that stimulated their production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2. </a:t>
            </a:r>
            <a:r>
              <a:rPr b="1" i="1" lang="en-US" sz="1400" spc="-1" strike="noStrike">
                <a:solidFill>
                  <a:srgbClr val="404040"/>
                </a:solidFill>
                <a:latin typeface="Trebuchet MS"/>
              </a:rPr>
              <a:t>Plasma cells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, which become enlarged and packed with rough endoplasmic reticulum, which synthesizes huge quantities of antibodi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ese antibodies are released into the bloodstream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36_08Figure-U"/>
          <p:cNvPicPr/>
          <p:nvPr/>
        </p:nvPicPr>
        <p:blipFill>
          <a:blip r:embed="rId1"/>
          <a:srcRect l="0" t="0" r="0" b="2313"/>
          <a:stretch/>
        </p:blipFill>
        <p:spPr>
          <a:xfrm>
            <a:off x="1263600" y="101520"/>
            <a:ext cx="6615000" cy="643248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31"/>
          <p:cNvSpPr/>
          <p:nvPr/>
        </p:nvSpPr>
        <p:spPr>
          <a:xfrm>
            <a:off x="4646520" y="157320"/>
            <a:ext cx="9208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1"/>
          <p:cNvSpPr/>
          <p:nvPr/>
        </p:nvSpPr>
        <p:spPr>
          <a:xfrm>
            <a:off x="6834240" y="174600"/>
            <a:ext cx="9205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3805200" y="287280"/>
            <a:ext cx="79704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7"/>
          <p:cNvSpPr/>
          <p:nvPr/>
        </p:nvSpPr>
        <p:spPr>
          <a:xfrm flipH="1">
            <a:off x="4432320" y="287280"/>
            <a:ext cx="1699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8"/>
          <p:cNvSpPr/>
          <p:nvPr/>
        </p:nvSpPr>
        <p:spPr>
          <a:xfrm flipH="1">
            <a:off x="6560640" y="325440"/>
            <a:ext cx="2271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9"/>
          <p:cNvSpPr/>
          <p:nvPr/>
        </p:nvSpPr>
        <p:spPr>
          <a:xfrm flipH="1">
            <a:off x="6760800" y="320760"/>
            <a:ext cx="2556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1422360" y="458640"/>
            <a:ext cx="11876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s bi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antibodi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one B ce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ark b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1"/>
          <p:cNvSpPr/>
          <p:nvPr/>
        </p:nvSpPr>
        <p:spPr>
          <a:xfrm>
            <a:off x="1393920" y="1746360"/>
            <a:ext cx="1517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 ce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selected” by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 multipli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1"/>
          <p:cNvSpPr/>
          <p:nvPr/>
        </p:nvSpPr>
        <p:spPr>
          <a:xfrm>
            <a:off x="1420920" y="2819520"/>
            <a:ext cx="1517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large clon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geneticall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cal B cell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pro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1"/>
          <p:cNvSpPr/>
          <p:nvPr/>
        </p:nvSpPr>
        <p:spPr>
          <a:xfrm>
            <a:off x="1409760" y="4143240"/>
            <a:ext cx="9968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cell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ia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o plasm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s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1"/>
          <p:cNvSpPr/>
          <p:nvPr/>
        </p:nvSpPr>
        <p:spPr>
          <a:xfrm>
            <a:off x="3227400" y="5437080"/>
            <a:ext cx="974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sma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5"/>
          <p:cNvSpPr/>
          <p:nvPr/>
        </p:nvSpPr>
        <p:spPr>
          <a:xfrm flipV="1">
            <a:off x="4221000" y="5342040"/>
            <a:ext cx="28764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6"/>
          <p:cNvSpPr/>
          <p:nvPr/>
        </p:nvSpPr>
        <p:spPr>
          <a:xfrm flipH="1" flipV="1">
            <a:off x="5574960" y="5430600"/>
            <a:ext cx="3301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1"/>
          <p:cNvSpPr/>
          <p:nvPr/>
        </p:nvSpPr>
        <p:spPr>
          <a:xfrm>
            <a:off x="3551400" y="6027840"/>
            <a:ext cx="974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plasm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8"/>
          <p:cNvSpPr/>
          <p:nvPr/>
        </p:nvSpPr>
        <p:spPr>
          <a:xfrm flipV="1">
            <a:off x="4363920" y="5603760"/>
            <a:ext cx="25092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9"/>
          <p:cNvSpPr/>
          <p:nvPr/>
        </p:nvSpPr>
        <p:spPr>
          <a:xfrm>
            <a:off x="5067360" y="6167520"/>
            <a:ext cx="372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0"/>
          <p:cNvSpPr/>
          <p:nvPr/>
        </p:nvSpPr>
        <p:spPr>
          <a:xfrm flipH="1">
            <a:off x="5037120" y="636588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1"/>
          <p:cNvSpPr/>
          <p:nvPr/>
        </p:nvSpPr>
        <p:spPr>
          <a:xfrm>
            <a:off x="1415880" y="5816520"/>
            <a:ext cx="1533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sma cell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ease antibodi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o the bl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5653080" y="5710320"/>
            <a:ext cx="974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1"/>
          <p:cNvSpPr/>
          <p:nvPr/>
        </p:nvSpPr>
        <p:spPr>
          <a:xfrm>
            <a:off x="5492880" y="6262560"/>
            <a:ext cx="974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umoral immun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09480" y="1514520"/>
            <a:ext cx="80978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Antibodies in the blood combat invading molecules or microbes in three way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342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irculating antibodies may bind to a foreign molecule, virus, or cell and render it harmless by a process called neutraliza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342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bodies may coat the surface of invading molecules, viruses, or cells and make it easier for macrophages and phagocytes to destroy th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342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antibodies bind to antigens on the surface of a microbe, the antibodies interact with complement proteins that are always present in the bloo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342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36_09FigureB-U"/>
          <p:cNvPicPr/>
          <p:nvPr/>
        </p:nvPicPr>
        <p:blipFill>
          <a:blip r:embed="rId1"/>
          <a:srcRect l="0" t="0" r="0" b="3382"/>
          <a:stretch/>
        </p:blipFill>
        <p:spPr>
          <a:xfrm>
            <a:off x="1413000" y="401760"/>
            <a:ext cx="6316560" cy="616716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31"/>
          <p:cNvSpPr/>
          <p:nvPr/>
        </p:nvSpPr>
        <p:spPr>
          <a:xfrm>
            <a:off x="1468440" y="5656320"/>
            <a:ext cx="3643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ibodies bind to antigens on a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robe and promote phagocytosis by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croph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1"/>
          <p:cNvSpPr/>
          <p:nvPr/>
        </p:nvSpPr>
        <p:spPr>
          <a:xfrm>
            <a:off x="2625840" y="3511440"/>
            <a:ext cx="1133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1"/>
          <p:cNvSpPr/>
          <p:nvPr/>
        </p:nvSpPr>
        <p:spPr>
          <a:xfrm>
            <a:off x="3362400" y="3830760"/>
            <a:ext cx="752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1"/>
          <p:cNvSpPr/>
          <p:nvPr/>
        </p:nvSpPr>
        <p:spPr>
          <a:xfrm rot="2134800">
            <a:off x="4063680" y="3350880"/>
            <a:ext cx="752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1"/>
          <p:cNvSpPr/>
          <p:nvPr/>
        </p:nvSpPr>
        <p:spPr>
          <a:xfrm rot="19729200">
            <a:off x="2335320" y="4575240"/>
            <a:ext cx="752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1"/>
          <p:cNvSpPr/>
          <p:nvPr/>
        </p:nvSpPr>
        <p:spPr>
          <a:xfrm>
            <a:off x="2765520" y="1041480"/>
            <a:ext cx="18320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croph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0"/>
          <p:cNvSpPr/>
          <p:nvPr/>
        </p:nvSpPr>
        <p:spPr>
          <a:xfrm flipV="1">
            <a:off x="3435480" y="3314880"/>
            <a:ext cx="30132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1"/>
          <p:cNvSpPr/>
          <p:nvPr/>
        </p:nvSpPr>
        <p:spPr>
          <a:xfrm>
            <a:off x="4327560" y="4019400"/>
            <a:ext cx="339840" cy="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2"/>
          <p:cNvSpPr/>
          <p:nvPr/>
        </p:nvSpPr>
        <p:spPr>
          <a:xfrm>
            <a:off x="2149560" y="3409920"/>
            <a:ext cx="415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"/>
          <p:cNvSpPr/>
          <p:nvPr/>
        </p:nvSpPr>
        <p:spPr>
          <a:xfrm flipV="1">
            <a:off x="3149640" y="4016160"/>
            <a:ext cx="14616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"/>
          <p:cNvSpPr/>
          <p:nvPr/>
        </p:nvSpPr>
        <p:spPr>
          <a:xfrm flipV="1">
            <a:off x="2565360" y="3801960"/>
            <a:ext cx="1270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480" y="318600"/>
            <a:ext cx="7678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ell-mediated immunity T Cell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09120" y="1480680"/>
            <a:ext cx="83026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ell-mediated immunity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is produced by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ytotoxic T cell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, which attack virus-infected body cells and cells that have become cancero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When a cell is infected by a virus, some pieces of viral proteins are brought to the surface of the infected cells and “displayed” on the outside of the plasma membran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When a cytotoxic T cell with an appropriate matching T-cell receptor binds to a viral antigen, the cytotoxic T cell passes through pores, killing the infected cel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f the infected cell is killed before the virus has finished multiplying, then no new viruses are produced, and the viral infection cannot spread to other cell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ancer cells often display unusual proteins on their surfaces that cytotoxic T cells recognize as foreign, and can be killed by the same mechanism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2" descr="36_10Figure-U"/>
          <p:cNvPicPr/>
          <p:nvPr/>
        </p:nvPicPr>
        <p:blipFill>
          <a:blip r:embed="rId1"/>
          <a:srcRect l="0" t="0" r="0" b="3206"/>
          <a:stretch/>
        </p:blipFill>
        <p:spPr>
          <a:xfrm>
            <a:off x="1343160" y="654120"/>
            <a:ext cx="6456240" cy="537048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1"/>
          <p:cNvSpPr/>
          <p:nvPr/>
        </p:nvSpPr>
        <p:spPr>
          <a:xfrm>
            <a:off x="1820880" y="3559320"/>
            <a:ext cx="22762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1"/>
          <p:cNvSpPr/>
          <p:nvPr/>
        </p:nvSpPr>
        <p:spPr>
          <a:xfrm>
            <a:off x="4719600" y="3857760"/>
            <a:ext cx="25812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ying cancer c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18000" y="499680"/>
            <a:ext cx="634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daptive immune respon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91680" y="2160360"/>
            <a:ext cx="4614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3560" indent="-3571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Specific internal defense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the final line of defense, comprise the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adaptive immune respons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in which immune cells selectively destroy the specific invading toxin or microbe and then “remember” the invader, allowing a faster response if it reappears in the futu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659" name="Group 4"/>
          <p:cNvGrpSpPr/>
          <p:nvPr/>
        </p:nvGrpSpPr>
        <p:grpSpPr>
          <a:xfrm>
            <a:off x="5587920" y="237960"/>
            <a:ext cx="3127320" cy="6419880"/>
            <a:chOff x="5587920" y="237960"/>
            <a:chExt cx="3127320" cy="6419880"/>
          </a:xfrm>
        </p:grpSpPr>
        <p:pic>
          <p:nvPicPr>
            <p:cNvPr id="660" name="Picture 2" descr="36_01Figure-U"/>
            <p:cNvPicPr/>
            <p:nvPr/>
          </p:nvPicPr>
          <p:blipFill>
            <a:blip r:embed="rId1"/>
            <a:srcRect l="0" t="0" r="0" b="2510"/>
            <a:stretch/>
          </p:blipFill>
          <p:spPr>
            <a:xfrm>
              <a:off x="5587920" y="237960"/>
              <a:ext cx="3127320" cy="64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1"/>
            <p:cNvSpPr/>
            <p:nvPr/>
          </p:nvSpPr>
          <p:spPr>
            <a:xfrm>
              <a:off x="6117840" y="2590560"/>
              <a:ext cx="19717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kin, mucous membra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31"/>
            <p:cNvSpPr/>
            <p:nvPr/>
          </p:nvSpPr>
          <p:spPr>
            <a:xfrm>
              <a:off x="6141960" y="2408040"/>
              <a:ext cx="19717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nspecific External Barr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31"/>
            <p:cNvSpPr/>
            <p:nvPr/>
          </p:nvSpPr>
          <p:spPr>
            <a:xfrm>
              <a:off x="6162480" y="4425840"/>
              <a:ext cx="1971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hagocytic and natural killer cells,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flammation, fe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31"/>
            <p:cNvSpPr/>
            <p:nvPr/>
          </p:nvSpPr>
          <p:spPr>
            <a:xfrm>
              <a:off x="6078240" y="4224240"/>
              <a:ext cx="19717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nate Immune Respon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31"/>
            <p:cNvSpPr/>
            <p:nvPr/>
          </p:nvSpPr>
          <p:spPr>
            <a:xfrm>
              <a:off x="6162480" y="3327120"/>
              <a:ext cx="1971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f these barriers are penetrated,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e body responds w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31"/>
            <p:cNvSpPr/>
            <p:nvPr/>
          </p:nvSpPr>
          <p:spPr>
            <a:xfrm>
              <a:off x="6092640" y="5283000"/>
              <a:ext cx="1971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f the innate immune response is insufficient,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e body responds w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31"/>
            <p:cNvSpPr/>
            <p:nvPr/>
          </p:nvSpPr>
          <p:spPr>
            <a:xfrm>
              <a:off x="5965560" y="6413400"/>
              <a:ext cx="239076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ell-mediated immunity, humoral immun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31"/>
            <p:cNvSpPr/>
            <p:nvPr/>
          </p:nvSpPr>
          <p:spPr>
            <a:xfrm>
              <a:off x="6059160" y="6205680"/>
              <a:ext cx="19717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daptive Immune Respon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9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elper T cells enhance both humoral and cell-mediated immune respons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09120" y="2160360"/>
            <a:ext cx="76201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 cells and cytotoxic T cells require assistance from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elper T cell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elper T cells bear receptors that bind to antigens displayed on the surfaces of dendritic cells or macrophages that have engulfed and digested invading microb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When its receptor binds an antigen, a helper T cell multiplies rapidly, and its daughter cells differentiate and release cytokinins that stimulate cell division and differentiation in both B cells and cytotoxic T cell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" descr="36_11Figure-U"/>
          <p:cNvPicPr/>
          <p:nvPr/>
        </p:nvPicPr>
        <p:blipFill>
          <a:blip r:embed="rId1"/>
          <a:srcRect l="0" t="0" r="0" b="2313"/>
          <a:stretch/>
        </p:blipFill>
        <p:spPr>
          <a:xfrm>
            <a:off x="1555920" y="490680"/>
            <a:ext cx="6032160" cy="632448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0160" y="78840"/>
            <a:ext cx="85870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ummary of humoral and cell-mediated immune respo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31"/>
          <p:cNvSpPr/>
          <p:nvPr/>
        </p:nvSpPr>
        <p:spPr>
          <a:xfrm>
            <a:off x="1658880" y="811080"/>
            <a:ext cx="1908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rgets invaders outside cells (e.g.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ruses, bacteria, fungi, protists, a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xin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31"/>
          <p:cNvSpPr/>
          <p:nvPr/>
        </p:nvSpPr>
        <p:spPr>
          <a:xfrm>
            <a:off x="2077920" y="585720"/>
            <a:ext cx="10605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ORAL IMMUN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3703680" y="811080"/>
            <a:ext cx="1590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imulate both humoral and cell-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diated immunity by releasi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tok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4135320" y="585720"/>
            <a:ext cx="10605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LPER T C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31"/>
          <p:cNvSpPr/>
          <p:nvPr/>
        </p:nvSpPr>
        <p:spPr>
          <a:xfrm>
            <a:off x="5649840" y="806400"/>
            <a:ext cx="159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rgets defective body cells (e.g.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ected cells and cancer cells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l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31"/>
          <p:cNvSpPr/>
          <p:nvPr/>
        </p:nvSpPr>
        <p:spPr>
          <a:xfrm>
            <a:off x="6010200" y="593640"/>
            <a:ext cx="10605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LL-MEDIATED IMMUN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1"/>
          <p:cNvSpPr/>
          <p:nvPr/>
        </p:nvSpPr>
        <p:spPr>
          <a:xfrm>
            <a:off x="6369120" y="2541600"/>
            <a:ext cx="625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cted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1"/>
          <p:cNvSpPr/>
          <p:nvPr/>
        </p:nvSpPr>
        <p:spPr>
          <a:xfrm>
            <a:off x="5419800" y="1789200"/>
            <a:ext cx="846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ral antigen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ed on th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rfaces of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dritic cells o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crophages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infec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1"/>
          <p:cNvSpPr/>
          <p:nvPr/>
        </p:nvSpPr>
        <p:spPr>
          <a:xfrm>
            <a:off x="5132520" y="3228840"/>
            <a:ext cx="1023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cell receptors bi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viral antig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1"/>
          <p:cNvSpPr/>
          <p:nvPr/>
        </p:nvSpPr>
        <p:spPr>
          <a:xfrm>
            <a:off x="6365880" y="3745080"/>
            <a:ext cx="600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totoxic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1"/>
          <p:cNvSpPr/>
          <p:nvPr/>
        </p:nvSpPr>
        <p:spPr>
          <a:xfrm>
            <a:off x="4272120" y="3841920"/>
            <a:ext cx="68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lper 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1"/>
          <p:cNvSpPr/>
          <p:nvPr/>
        </p:nvSpPr>
        <p:spPr>
          <a:xfrm>
            <a:off x="4299120" y="2292480"/>
            <a:ext cx="684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ndritic cell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 macroph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1"/>
          <p:cNvSpPr/>
          <p:nvPr/>
        </p:nvSpPr>
        <p:spPr>
          <a:xfrm>
            <a:off x="4386240" y="1368360"/>
            <a:ext cx="2811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1"/>
          <p:cNvSpPr/>
          <p:nvPr/>
        </p:nvSpPr>
        <p:spPr>
          <a:xfrm>
            <a:off x="3594240" y="1471680"/>
            <a:ext cx="28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ral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3495600" y="3556080"/>
            <a:ext cx="281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toki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1"/>
          <p:cNvSpPr/>
          <p:nvPr/>
        </p:nvSpPr>
        <p:spPr>
          <a:xfrm>
            <a:off x="1760400" y="2602080"/>
            <a:ext cx="1158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-cell antibodies bi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viral antigens a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imulate the B cells to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de and different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1"/>
          <p:cNvSpPr/>
          <p:nvPr/>
        </p:nvSpPr>
        <p:spPr>
          <a:xfrm>
            <a:off x="1636560" y="3424320"/>
            <a:ext cx="281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ib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1"/>
          <p:cNvSpPr/>
          <p:nvPr/>
        </p:nvSpPr>
        <p:spPr>
          <a:xfrm>
            <a:off x="1846440" y="3571920"/>
            <a:ext cx="1425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2"/>
          <p:cNvSpPr/>
          <p:nvPr/>
        </p:nvSpPr>
        <p:spPr>
          <a:xfrm flipV="1">
            <a:off x="3081240" y="3644640"/>
            <a:ext cx="393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3"/>
          <p:cNvSpPr/>
          <p:nvPr/>
        </p:nvSpPr>
        <p:spPr>
          <a:xfrm flipH="1">
            <a:off x="3309480" y="3648240"/>
            <a:ext cx="165240" cy="16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1"/>
          <p:cNvSpPr/>
          <p:nvPr/>
        </p:nvSpPr>
        <p:spPr>
          <a:xfrm>
            <a:off x="2325600" y="3833640"/>
            <a:ext cx="2811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5"/>
          <p:cNvSpPr/>
          <p:nvPr/>
        </p:nvSpPr>
        <p:spPr>
          <a:xfrm flipV="1">
            <a:off x="3855960" y="1547640"/>
            <a:ext cx="53352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6"/>
          <p:cNvSpPr/>
          <p:nvPr/>
        </p:nvSpPr>
        <p:spPr>
          <a:xfrm>
            <a:off x="3754440" y="1739880"/>
            <a:ext cx="2412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1"/>
          <p:cNvSpPr/>
          <p:nvPr/>
        </p:nvSpPr>
        <p:spPr>
          <a:xfrm>
            <a:off x="4014720" y="4454640"/>
            <a:ext cx="10238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tokines released b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lper T cells stimulate B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lls and cytotoxic T c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1"/>
          <p:cNvSpPr/>
          <p:nvPr/>
        </p:nvSpPr>
        <p:spPr>
          <a:xfrm>
            <a:off x="1965240" y="5423040"/>
            <a:ext cx="281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sma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2916360" y="5316480"/>
            <a:ext cx="2808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4343400" y="5276880"/>
            <a:ext cx="458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lp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1"/>
          <p:cNvSpPr/>
          <p:nvPr/>
        </p:nvSpPr>
        <p:spPr>
          <a:xfrm>
            <a:off x="5854680" y="5275440"/>
            <a:ext cx="458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totoxic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1"/>
          <p:cNvSpPr/>
          <p:nvPr/>
        </p:nvSpPr>
        <p:spPr>
          <a:xfrm>
            <a:off x="6751800" y="5332320"/>
            <a:ext cx="59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totoxic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1"/>
          <p:cNvSpPr/>
          <p:nvPr/>
        </p:nvSpPr>
        <p:spPr>
          <a:xfrm>
            <a:off x="1763640" y="6237360"/>
            <a:ext cx="1023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sma cells secre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tibodies into th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d and interstitial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u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1"/>
          <p:cNvSpPr/>
          <p:nvPr/>
        </p:nvSpPr>
        <p:spPr>
          <a:xfrm>
            <a:off x="4049640" y="6230880"/>
            <a:ext cx="1023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mory cells confe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ture immunity to thi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 virus but  no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any other microb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1"/>
          <p:cNvSpPr/>
          <p:nvPr/>
        </p:nvSpPr>
        <p:spPr>
          <a:xfrm>
            <a:off x="5648400" y="6238800"/>
            <a:ext cx="1023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totoxic T cell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 pore-formi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ins that destro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ected c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31"/>
          <p:cNvSpPr/>
          <p:nvPr/>
        </p:nvSpPr>
        <p:spPr>
          <a:xfrm>
            <a:off x="7040520" y="5897520"/>
            <a:ext cx="412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c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mory B cells and Memory T cell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198000" y="2261880"/>
            <a:ext cx="877572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fter recovering from a disease, you remain immune to that particular microbe for many years, perhaps a lifetim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ome of the daughter cells of the original B cells, cytotoxic T cells, and helper T cells that responded to the original infection differentiate into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memory B cells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and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memory T cells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that survive for many year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f the body is reinvaded by the same type of microbe, the memory cells recognize the invader and mount an immune respons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36_12Figure-U"/>
          <p:cNvPicPr/>
          <p:nvPr/>
        </p:nvPicPr>
        <p:blipFill>
          <a:blip r:embed="rId1"/>
          <a:srcRect l="0" t="0" r="0" b="4057"/>
          <a:stretch/>
        </p:blipFill>
        <p:spPr>
          <a:xfrm>
            <a:off x="297000" y="1081080"/>
            <a:ext cx="8548560" cy="450360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0160" y="-360"/>
            <a:ext cx="8587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6-12 Acquired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31"/>
          <p:cNvSpPr/>
          <p:nvPr/>
        </p:nvSpPr>
        <p:spPr>
          <a:xfrm>
            <a:off x="2328840" y="2949480"/>
            <a:ext cx="13492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rst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31"/>
          <p:cNvSpPr/>
          <p:nvPr/>
        </p:nvSpPr>
        <p:spPr>
          <a:xfrm>
            <a:off x="4309920" y="2378160"/>
            <a:ext cx="1146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rval: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onths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31"/>
          <p:cNvSpPr/>
          <p:nvPr/>
        </p:nvSpPr>
        <p:spPr>
          <a:xfrm>
            <a:off x="5872320" y="2225520"/>
            <a:ext cx="143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31"/>
          <p:cNvSpPr/>
          <p:nvPr/>
        </p:nvSpPr>
        <p:spPr>
          <a:xfrm>
            <a:off x="3370320" y="5222880"/>
            <a:ext cx="451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ime since exposure (week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1"/>
          <p:cNvSpPr/>
          <p:nvPr/>
        </p:nvSpPr>
        <p:spPr>
          <a:xfrm>
            <a:off x="1979640" y="4816440"/>
            <a:ext cx="384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31"/>
          <p:cNvSpPr/>
          <p:nvPr/>
        </p:nvSpPr>
        <p:spPr>
          <a:xfrm>
            <a:off x="2728800" y="4822920"/>
            <a:ext cx="38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3459240" y="4822920"/>
            <a:ext cx="38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1"/>
          <p:cNvSpPr/>
          <p:nvPr/>
        </p:nvSpPr>
        <p:spPr>
          <a:xfrm>
            <a:off x="4202280" y="4822920"/>
            <a:ext cx="38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1"/>
          <p:cNvSpPr/>
          <p:nvPr/>
        </p:nvSpPr>
        <p:spPr>
          <a:xfrm>
            <a:off x="6418440" y="4816440"/>
            <a:ext cx="384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7167600" y="4822920"/>
            <a:ext cx="38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1"/>
          <p:cNvSpPr/>
          <p:nvPr/>
        </p:nvSpPr>
        <p:spPr>
          <a:xfrm>
            <a:off x="7897680" y="4822920"/>
            <a:ext cx="384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8640720" y="4822920"/>
            <a:ext cx="38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6"/>
          <p:cNvSpPr/>
          <p:nvPr/>
        </p:nvSpPr>
        <p:spPr>
          <a:xfrm>
            <a:off x="6489720" y="293364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7"/>
          <p:cNvSpPr/>
          <p:nvPr/>
        </p:nvSpPr>
        <p:spPr>
          <a:xfrm>
            <a:off x="4915080" y="3422520"/>
            <a:ext cx="545760" cy="10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8"/>
          <p:cNvSpPr/>
          <p:nvPr/>
        </p:nvSpPr>
        <p:spPr>
          <a:xfrm flipH="1">
            <a:off x="2050920" y="3695760"/>
            <a:ext cx="819360" cy="78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1"/>
          <p:cNvSpPr/>
          <p:nvPr/>
        </p:nvSpPr>
        <p:spPr>
          <a:xfrm>
            <a:off x="449280" y="2270160"/>
            <a:ext cx="13492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mmun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pons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amount of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tibody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duce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166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ow Does Medical Care Assist the Immune Response?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battle against disease, for most of human history, was fought by the immune response alo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urrently, the immune response has a powerful assist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edical treatmen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Antibiotics and vaccinations are two very important medical tool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biotic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44000" y="1279080"/>
            <a:ext cx="877572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biotics slow down microbial reproduc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Antibiotics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are chemicals that help to combat infection by slowing down the multiplication of bacteria, fungi, or protist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e occasional mutant microbe that is resistant to an antibiotic will pass on the genes for resistance to its offspring; resistant microbes thrive while susceptible microbes die off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Eventually, many antibiotics become ineffective in treating diseases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biotics are not effective against viruses because they target metabolic processes that viruses do not posses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Drugs are now available that target different stages of the viral cycle of infection, including attachment to a host cell, replication of viral parts, assembly of new viruses within the host cell, and the release of these viruses to infect more body cell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Antiviral drugs are available to treat HIV, herpes virus (cold and genital sores), and the flu viru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Vaccin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44000" y="1279080"/>
            <a:ext cx="877572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vaccine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stimulates an immune response by exposing a person to antigens produced by a pathogen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Vaccines often consist of weakened or killed microbes, or some of the pathogen’s antigens, usually synthesized using genetic engineering techniqu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Exposure to these antigens results in the body producing an army of memory cells that confer immunity against living microbes of the same typ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V and AI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144000" y="1279440"/>
            <a:ext cx="877572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spcAft>
                <a:spcPts val="2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IDS is caused by 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human immunodeficiency viruses (HIV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that undermine the immune system by infecting and destroying helper T cells, which stimulate both the cell-mediated and humoral immune respons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612"/>
              </a:spcBef>
              <a:spcAft>
                <a:spcPts val="176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AIDS does not kill people directly, but AIDS victims become increasingly susceptible to other diseases as their helper T-cell populations declin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612"/>
              </a:spcBef>
              <a:spcAft>
                <a:spcPts val="176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HIV enters a helper T cell and hijacks the cell’s metabolic machinery, forcing it to make more viruses, which then emerge, taking an outer coating of T-cell membrane with them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Helper T-cell levels continue to decline over time and without treatment, and eventually the immune response becomes too weak to overcome routine infection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At this time, the person is considered to have AIDS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e life expectancy for untreated AIDS victims is 1 to 2 years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612"/>
              </a:spcBef>
              <a:spcAft>
                <a:spcPts val="176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612"/>
              </a:spcBef>
              <a:spcAft>
                <a:spcPts val="176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83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adaptive immune system consists of three major compone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Immune cell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Tissues and organs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Secreted protei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Key wor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800" spc="-1" strike="noStrike">
                <a:solidFill>
                  <a:srgbClr val="404040"/>
                </a:solidFill>
                <a:latin typeface="Trebuchet MS"/>
              </a:rPr>
              <a:t>The adaptive immune syst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1600" spc="-1" strike="noStrike">
                <a:solidFill>
                  <a:srgbClr val="404040"/>
                </a:solidFill>
                <a:latin typeface="Trebuchet MS"/>
              </a:rPr>
              <a:t>processes that eliminate or prevent pathogenic growth</a:t>
            </a:r>
            <a:br>
              <a:rPr sz="1600"/>
            </a:br>
            <a:r>
              <a:rPr b="0" lang="en-CA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ath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An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Leukocyte and lymphocyt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B cells and T cel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Memory cel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Antigen presenting cel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Immun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macropha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mmune cell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90600" y="1587240"/>
            <a:ext cx="81532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ral types of white blood cells, including macrophages and lymphocyt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Unique to the adaptive immune response are specialized white blood cells called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lymphocyt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B cell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and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 cell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are two types of lymphocytes that arise from dividing stem cells in the bone marrow and thym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3"/>
          <p:cNvGrpSpPr/>
          <p:nvPr/>
        </p:nvGrpSpPr>
        <p:grpSpPr>
          <a:xfrm>
            <a:off x="5054760" y="125280"/>
            <a:ext cx="3944880" cy="6589800"/>
            <a:chOff x="5054760" y="125280"/>
            <a:chExt cx="3944880" cy="6589800"/>
          </a:xfrm>
        </p:grpSpPr>
        <p:pic>
          <p:nvPicPr>
            <p:cNvPr id="676" name="Picture 2" descr="36_05Figure-U"/>
            <p:cNvPicPr/>
            <p:nvPr/>
          </p:nvPicPr>
          <p:blipFill>
            <a:blip r:embed="rId1"/>
            <a:srcRect l="0" t="0" r="0" b="-66"/>
            <a:stretch/>
          </p:blipFill>
          <p:spPr>
            <a:xfrm>
              <a:off x="5054760" y="125280"/>
              <a:ext cx="394488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 Box 31"/>
            <p:cNvSpPr/>
            <p:nvPr/>
          </p:nvSpPr>
          <p:spPr>
            <a:xfrm>
              <a:off x="5610240" y="198900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y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5"/>
            <p:cNvSpPr/>
            <p:nvPr/>
          </p:nvSpPr>
          <p:spPr>
            <a:xfrm>
              <a:off x="6180120" y="2100240"/>
              <a:ext cx="11239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6"/>
            <p:cNvSpPr/>
            <p:nvPr/>
          </p:nvSpPr>
          <p:spPr>
            <a:xfrm flipV="1">
              <a:off x="6228000" y="2779200"/>
              <a:ext cx="109512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7"/>
            <p:cNvSpPr/>
            <p:nvPr/>
          </p:nvSpPr>
          <p:spPr>
            <a:xfrm>
              <a:off x="7250400" y="1258560"/>
              <a:ext cx="64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31"/>
            <p:cNvSpPr/>
            <p:nvPr/>
          </p:nvSpPr>
          <p:spPr>
            <a:xfrm>
              <a:off x="7928280" y="114768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ns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31"/>
            <p:cNvSpPr/>
            <p:nvPr/>
          </p:nvSpPr>
          <p:spPr>
            <a:xfrm>
              <a:off x="8410680" y="199548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r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"/>
            <p:cNvSpPr/>
            <p:nvPr/>
          </p:nvSpPr>
          <p:spPr>
            <a:xfrm>
              <a:off x="8079120" y="21016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1"/>
            <p:cNvSpPr/>
            <p:nvPr/>
          </p:nvSpPr>
          <p:spPr>
            <a:xfrm flipV="1">
              <a:off x="7742520" y="3011400"/>
              <a:ext cx="62532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31"/>
            <p:cNvSpPr/>
            <p:nvPr/>
          </p:nvSpPr>
          <p:spPr>
            <a:xfrm>
              <a:off x="8417160" y="289728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l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31"/>
            <p:cNvSpPr/>
            <p:nvPr/>
          </p:nvSpPr>
          <p:spPr>
            <a:xfrm>
              <a:off x="5616720" y="279252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oraci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u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4"/>
            <p:cNvSpPr/>
            <p:nvPr/>
          </p:nvSpPr>
          <p:spPr>
            <a:xfrm flipV="1">
              <a:off x="6228000" y="2779200"/>
              <a:ext cx="109224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5"/>
            <p:cNvSpPr/>
            <p:nvPr/>
          </p:nvSpPr>
          <p:spPr>
            <a:xfrm flipV="1">
              <a:off x="6122880" y="3373560"/>
              <a:ext cx="79056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6"/>
            <p:cNvSpPr/>
            <p:nvPr/>
          </p:nvSpPr>
          <p:spPr>
            <a:xfrm>
              <a:off x="6120000" y="3522600"/>
              <a:ext cx="85068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7"/>
            <p:cNvSpPr/>
            <p:nvPr/>
          </p:nvSpPr>
          <p:spPr>
            <a:xfrm>
              <a:off x="6120000" y="3522600"/>
              <a:ext cx="83484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31"/>
            <p:cNvSpPr/>
            <p:nvPr/>
          </p:nvSpPr>
          <p:spPr>
            <a:xfrm>
              <a:off x="5613480" y="335772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ymp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ess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31"/>
            <p:cNvSpPr/>
            <p:nvPr/>
          </p:nvSpPr>
          <p:spPr>
            <a:xfrm>
              <a:off x="5613480" y="378288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ymp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0"/>
            <p:cNvSpPr/>
            <p:nvPr/>
          </p:nvSpPr>
          <p:spPr>
            <a:xfrm flipV="1">
              <a:off x="6122880" y="3865680"/>
              <a:ext cx="9334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1"/>
            <p:cNvSpPr/>
            <p:nvPr/>
          </p:nvSpPr>
          <p:spPr>
            <a:xfrm>
              <a:off x="6120000" y="3935520"/>
              <a:ext cx="97776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31"/>
            <p:cNvSpPr/>
            <p:nvPr/>
          </p:nvSpPr>
          <p:spPr>
            <a:xfrm>
              <a:off x="5543640" y="498960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lve prevent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ck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31"/>
            <p:cNvSpPr/>
            <p:nvPr/>
          </p:nvSpPr>
          <p:spPr>
            <a:xfrm>
              <a:off x="5400720" y="537696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ymp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31"/>
            <p:cNvSpPr/>
            <p:nvPr/>
          </p:nvSpPr>
          <p:spPr>
            <a:xfrm>
              <a:off x="5153040" y="578340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amber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cked wit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ite bloo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e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5"/>
            <p:cNvSpPr/>
            <p:nvPr/>
          </p:nvSpPr>
          <p:spPr>
            <a:xfrm>
              <a:off x="6256440" y="5199120"/>
              <a:ext cx="65088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6"/>
            <p:cNvSpPr/>
            <p:nvPr/>
          </p:nvSpPr>
          <p:spPr>
            <a:xfrm flipV="1">
              <a:off x="5840280" y="5532120"/>
              <a:ext cx="54288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7"/>
            <p:cNvSpPr/>
            <p:nvPr/>
          </p:nvSpPr>
          <p:spPr>
            <a:xfrm flipV="1">
              <a:off x="6053040" y="5710320"/>
              <a:ext cx="6159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8"/>
            <p:cNvSpPr/>
            <p:nvPr/>
          </p:nvSpPr>
          <p:spPr>
            <a:xfrm flipV="1">
              <a:off x="6046920" y="5897520"/>
              <a:ext cx="52380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issues and orga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286920" y="1214280"/>
            <a:ext cx="5326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ymph node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 which contain masses of macrophages and specialized white blood cells called lymphocyt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ymu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 is located beneath the breastbone, slightly above the heart, and is essential for development of T cell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plee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 fist-sized organ located on the left side of the abdominal cavity - filters blood, exposing it to white blood cells that destroy microbes and aged red blood cel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onsil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 are located in a ring around the pharynx Macrophages and other white blood cells in the tonsils directly destroy many invading microbes and often trigger an adaptive immune respon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ecreted prote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09120" y="1623960"/>
            <a:ext cx="808380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ytokines: secreted by leukocyt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950"/>
              </a:spcBef>
              <a:spcAft>
                <a:spcPts val="238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Antibodies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: proteins produced by B cells and their offspring, help the immune system to recognize invading microbes and destroy them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ll adaptive immune responses include the same three step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44000" y="1929960"/>
            <a:ext cx="877572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55600" indent="-35532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Lymphocytes recognize an invading microbe and distinguish the invader from self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155600" indent="-35532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ey launch an attack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155600" indent="-35532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ey retain a memory of the invader that allows them to ward off future infections by the same type of microbe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gens: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09480" y="1186920"/>
            <a:ext cx="82756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aptive immune system recognizes invaders’ complex molecules - ANTIG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Antigens: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large, complex molecul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ey are “</a:t>
            </a:r>
            <a:r>
              <a:rPr b="0" i="1" lang="en-US" sz="1400" spc="-1" strike="noStrike">
                <a:solidFill>
                  <a:srgbClr val="404040"/>
                </a:solidFill>
                <a:latin typeface="Trebuchet MS"/>
              </a:rPr>
              <a:t>anti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body </a:t>
            </a:r>
            <a:r>
              <a:rPr b="0" i="1" lang="en-US" sz="1400" spc="-1" strike="noStrike">
                <a:solidFill>
                  <a:srgbClr val="404040"/>
                </a:solidFill>
                <a:latin typeface="Trebuchet MS"/>
              </a:rPr>
              <a:t>gen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erating” molecules that can provoke an immune response, including the production of antibodi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acteria and humans differ from one another because each contains specific, complex molecules that the other does not hav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gens are often located on the surfaces of invading microbe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ny viral antigens become incorporated into the plasma membranes of infected body cell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Viral or bacterial antigens are also “displayed” on the plasma membranes of dendritic cells and macrophages that engulf them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ther antigens, such as toxins released by bacteria, may be toxins in the blood plasma, lymph, or other extracellular fluid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8:39:41Z</dcterms:created>
  <dc:creator>R U</dc:creator>
  <dc:description/>
  <dc:language>en-US</dc:language>
  <cp:lastModifiedBy>Sean</cp:lastModifiedBy>
  <cp:lastPrinted>2015-02-25T19:27:02Z</cp:lastPrinted>
  <dcterms:modified xsi:type="dcterms:W3CDTF">2017-03-06T19:28:52Z</dcterms:modified>
  <cp:revision>129</cp:revision>
  <dc:subject/>
  <dc:title>Chapter 36</dc:title>
</cp:coreProperties>
</file>